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527-C75B-4306-8609-BD0B4C59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D09-E309-4B16-8AD2-C9A97FFC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618-7FBD-41C6-B262-07FA71E8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A88-06BF-4E13-A59A-8BA92D37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E26A-E1CE-4C0D-BDD1-5951D19E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93F2-9D46-4657-A726-82413AE2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A493-2E24-43E6-B601-788B27F1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7298-1D5A-4B35-A445-BD4B4AB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30A3-79AB-46B0-8B7D-5A2C4096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B5DA-6147-4BDF-8FE2-05848D00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380-A56F-4E20-9EE6-218711D4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F91-53CA-402F-9BFD-609A3BB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CD3A-165E-4914-BEBD-5BD9539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862A-D60E-47F6-B289-D2D46CC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2D0B-0373-45EB-AD10-403C8DC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873-45DF-47C1-8EF3-6956D0FF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3B5-1FA4-4181-ACDC-1CE4917B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B04-CAE0-4C41-B606-5AB11F0F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B02-AFD0-4A6C-A95D-382AB763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547-F637-4BE8-882E-3F03370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835-944F-47ED-8142-22BDE79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9B2-69EB-4C20-9899-06E759B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E3C-AD87-4DBE-98DB-7772105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E67-D2B2-461C-9C4B-586E050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B16-D570-4191-B3E8-6B099DC38A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rograma de Actualización"/>
          <p:cNvPicPr/>
          <p:nvPr/>
        </p:nvPicPr>
        <p:blipFill>
          <a:blip r:embed="rId4"/>
          <a:stretch/>
        </p:blipFill>
        <p:spPr>
          <a:xfrm>
            <a:off x="7715160" y="6000840"/>
            <a:ext cx="1357560" cy="646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DD61-AACB-4158-B065-2553E91F388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8840" y="714240"/>
            <a:ext cx="657216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ONES  DE  ADMINIS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838080" y="1981080"/>
            <a:ext cx="7391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2060"/>
                </a:solidFill>
                <a:latin typeface="Arial"/>
              </a:rPr>
              <a:t>Aquí tenemos tres lecciones sacadas de 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2060"/>
                </a:solidFill>
                <a:latin typeface="Arial"/>
              </a:rPr>
              <a:t>experiencia de grandes empresa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3573360"/>
            <a:ext cx="8854920" cy="3284640"/>
            <a:chOff x="0" y="3573360"/>
            <a:chExt cx="8854920" cy="3284640"/>
          </a:xfrm>
        </p:grpSpPr>
        <p:pic>
          <p:nvPicPr>
            <p:cNvPr id="96" name="Object 3" descr=""/>
            <p:cNvPicPr/>
            <p:nvPr/>
          </p:nvPicPr>
          <p:blipFill>
            <a:blip r:embed="rId1"/>
            <a:stretch/>
          </p:blipFill>
          <p:spPr>
            <a:xfrm>
              <a:off x="0" y="3878280"/>
              <a:ext cx="3505320" cy="29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Object 4" descr=""/>
            <p:cNvPicPr/>
            <p:nvPr/>
          </p:nvPicPr>
          <p:blipFill>
            <a:blip r:embed="rId2"/>
            <a:stretch/>
          </p:blipFill>
          <p:spPr>
            <a:xfrm>
              <a:off x="1676520" y="3573360"/>
              <a:ext cx="3952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Object 5" descr=""/>
            <p:cNvPicPr/>
            <p:nvPr/>
          </p:nvPicPr>
          <p:blipFill>
            <a:blip r:embed="rId3"/>
            <a:stretch/>
          </p:blipFill>
          <p:spPr>
            <a:xfrm>
              <a:off x="1371600" y="6164280"/>
              <a:ext cx="6476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3200400" y="4182840"/>
              <a:ext cx="565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 conejito se tumbó a la sombra del árbol y se puso a descansa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48040" y="380880"/>
            <a:ext cx="43099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65040" y="1509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33"/>
          <p:cNvGrpSpPr/>
          <p:nvPr/>
        </p:nvGrpSpPr>
        <p:grpSpPr>
          <a:xfrm>
            <a:off x="304920" y="1219320"/>
            <a:ext cx="8001000" cy="2209680"/>
            <a:chOff x="304920" y="1219320"/>
            <a:chExt cx="8001000" cy="2209680"/>
          </a:xfrm>
        </p:grpSpPr>
        <p:pic>
          <p:nvPicPr>
            <p:cNvPr id="105" name="Object 12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13366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3"/>
            <p:cNvSpPr/>
            <p:nvPr/>
          </p:nvSpPr>
          <p:spPr>
            <a:xfrm>
              <a:off x="1828800" y="1219320"/>
              <a:ext cx="647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 cuervo estaba sentado en un árbol, sin hacer nada en todo el dí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1905120" y="2209680"/>
            <a:ext cx="6645240" cy="1313640"/>
            <a:chOff x="1905120" y="2209680"/>
            <a:chExt cx="6645240" cy="1313640"/>
          </a:xfrm>
        </p:grpSpPr>
        <p:pic>
          <p:nvPicPr>
            <p:cNvPr id="108" name="Object 15" descr=""/>
            <p:cNvPicPr/>
            <p:nvPr/>
          </p:nvPicPr>
          <p:blipFill>
            <a:blip r:embed="rId5"/>
            <a:stretch/>
          </p:blipFill>
          <p:spPr>
            <a:xfrm>
              <a:off x="1905120" y="2286000"/>
              <a:ext cx="100332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6"/>
            <p:cNvSpPr/>
            <p:nvPr/>
          </p:nvSpPr>
          <p:spPr>
            <a:xfrm>
              <a:off x="3048120" y="2209680"/>
              <a:ext cx="550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 conejito vio al cuervo y le preguntó: “¿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odría yo tambien sentarme, sin hacer nada, todo el día?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 cuervo respondió: “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laro. ¿Por qué no?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2819520" y="5181480"/>
            <a:ext cx="5790960" cy="1513080"/>
            <a:chOff x="2819520" y="5181480"/>
            <a:chExt cx="5790960" cy="1513080"/>
          </a:xfrm>
        </p:grpSpPr>
        <p:sp>
          <p:nvSpPr>
            <p:cNvPr id="111" name="Text Box 18"/>
            <p:cNvSpPr/>
            <p:nvPr/>
          </p:nvSpPr>
          <p:spPr>
            <a:xfrm>
              <a:off x="3886200" y="5181480"/>
              <a:ext cx="472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 repente apareció un Perro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12" name="Object 19" descr=""/>
            <p:cNvPicPr/>
            <p:nvPr/>
          </p:nvPicPr>
          <p:blipFill>
            <a:blip r:embed="rId6"/>
            <a:stretch/>
          </p:blipFill>
          <p:spPr>
            <a:xfrm>
              <a:off x="2819520" y="5715000"/>
              <a:ext cx="1015920" cy="97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32"/>
          <p:cNvGrpSpPr/>
          <p:nvPr/>
        </p:nvGrpSpPr>
        <p:grpSpPr>
          <a:xfrm>
            <a:off x="1295280" y="6211800"/>
            <a:ext cx="6981120" cy="646200"/>
            <a:chOff x="1295280" y="6211800"/>
            <a:chExt cx="6981120" cy="646200"/>
          </a:xfrm>
        </p:grpSpPr>
        <p:sp>
          <p:nvSpPr>
            <p:cNvPr id="114" name="Text Box 29"/>
            <p:cNvSpPr/>
            <p:nvPr/>
          </p:nvSpPr>
          <p:spPr>
            <a:xfrm>
              <a:off x="3601440" y="6288120"/>
              <a:ext cx="46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ltó sobre el conejo y se lo comió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15" name="Object 21" descr=""/>
            <p:cNvPicPr/>
            <p:nvPr/>
          </p:nvPicPr>
          <p:blipFill>
            <a:blip r:embed="rId7"/>
            <a:stretch/>
          </p:blipFill>
          <p:spPr>
            <a:xfrm>
              <a:off x="1295280" y="6211800"/>
              <a:ext cx="91440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Rectangle 23"/>
          <p:cNvSpPr/>
          <p:nvPr/>
        </p:nvSpPr>
        <p:spPr>
          <a:xfrm>
            <a:off x="-533520" y="2362320"/>
            <a:ext cx="99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381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0" y="3429000"/>
            <a:ext cx="3505320" cy="3255840"/>
            <a:chOff x="0" y="3429000"/>
            <a:chExt cx="3505320" cy="3255840"/>
          </a:xfrm>
        </p:grpSpPr>
        <p:grpSp>
          <p:nvGrpSpPr>
            <p:cNvPr id="121" name="Group 6"/>
            <p:cNvGrpSpPr/>
            <p:nvPr/>
          </p:nvGrpSpPr>
          <p:grpSpPr>
            <a:xfrm>
              <a:off x="0" y="3429000"/>
              <a:ext cx="3505320" cy="3255840"/>
              <a:chOff x="0" y="3429000"/>
              <a:chExt cx="3505320" cy="3255840"/>
            </a:xfrm>
          </p:grpSpPr>
          <p:pic>
            <p:nvPicPr>
              <p:cNvPr id="122" name="Object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733920"/>
                <a:ext cx="3505320" cy="295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3429000"/>
                <a:ext cx="39528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24" name="Object 9"/>
            <p:cNvGraphicFramePr/>
            <p:nvPr/>
          </p:nvGraphicFramePr>
          <p:xfrm>
            <a:off x="228600" y="5943600"/>
            <a:ext cx="71136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5943600"/>
                      <a:ext cx="7113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Text Box 10"/>
          <p:cNvSpPr/>
          <p:nvPr/>
        </p:nvSpPr>
        <p:spPr>
          <a:xfrm>
            <a:off x="3856320" y="226224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oraleja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24080" y="3276720"/>
            <a:ext cx="5869080" cy="916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Para poder estar sentado sin hacer nada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debes estar sentado muy, muy al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04920" y="990720"/>
            <a:ext cx="8381880" cy="2971800"/>
            <a:chOff x="304920" y="990720"/>
            <a:chExt cx="8381880" cy="2971800"/>
          </a:xfrm>
        </p:grpSpPr>
        <p:pic>
          <p:nvPicPr>
            <p:cNvPr id="129" name="Object 3" descr=""/>
            <p:cNvPicPr/>
            <p:nvPr/>
          </p:nvPicPr>
          <p:blipFill>
            <a:blip r:embed="rId1"/>
            <a:stretch/>
          </p:blipFill>
          <p:spPr>
            <a:xfrm>
              <a:off x="304920" y="990720"/>
              <a:ext cx="277956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4"/>
            <p:cNvSpPr/>
            <p:nvPr/>
          </p:nvSpPr>
          <p:spPr>
            <a:xfrm>
              <a:off x="2590920" y="2928960"/>
              <a:ext cx="609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Me encantaría ser capaz de subir a lo alto de aquel árbol“,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dijo el pavo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, “pero no tengo la energía suficiente.”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42920"/>
            <a:ext cx="79531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3886200" y="914400"/>
            <a:ext cx="3844080" cy="2146320"/>
            <a:chOff x="3886200" y="914400"/>
            <a:chExt cx="3844080" cy="2146320"/>
          </a:xfrm>
        </p:grpSpPr>
        <p:pic>
          <p:nvPicPr>
            <p:cNvPr id="135" name="Object 10" descr=""/>
            <p:cNvPicPr/>
            <p:nvPr/>
          </p:nvPicPr>
          <p:blipFill>
            <a:blip r:embed="rId2"/>
            <a:stretch/>
          </p:blipFill>
          <p:spPr>
            <a:xfrm>
              <a:off x="3886200" y="1447920"/>
              <a:ext cx="175248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11" descr=""/>
            <p:cNvPicPr/>
            <p:nvPr/>
          </p:nvPicPr>
          <p:blipFill>
            <a:blip r:embed="rId3"/>
            <a:stretch/>
          </p:blipFill>
          <p:spPr>
            <a:xfrm>
              <a:off x="5943600" y="1905120"/>
              <a:ext cx="9000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>
              <a:off x="4016880" y="914400"/>
              <a:ext cx="37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 pavo estaba hablando con un buey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Group 13"/>
          <p:cNvGrpSpPr/>
          <p:nvPr/>
        </p:nvGrpSpPr>
        <p:grpSpPr>
          <a:xfrm>
            <a:off x="500040" y="3571920"/>
            <a:ext cx="8001000" cy="747720"/>
            <a:chOff x="500040" y="3571920"/>
            <a:chExt cx="8001000" cy="747720"/>
          </a:xfrm>
        </p:grpSpPr>
        <p:grpSp>
          <p:nvGrpSpPr>
            <p:cNvPr id="139" name="Group 14"/>
            <p:cNvGrpSpPr/>
            <p:nvPr/>
          </p:nvGrpSpPr>
          <p:grpSpPr>
            <a:xfrm>
              <a:off x="500040" y="4044960"/>
              <a:ext cx="1676160" cy="274680"/>
              <a:chOff x="500040" y="4044960"/>
              <a:chExt cx="1676160" cy="274680"/>
            </a:xfrm>
          </p:grpSpPr>
          <p:graphicFrame>
            <p:nvGraphicFramePr>
              <p:cNvPr id="140" name="Object 15"/>
              <p:cNvGraphicFramePr/>
              <p:nvPr/>
            </p:nvGraphicFramePr>
            <p:xfrm>
              <a:off x="500040" y="4044960"/>
              <a:ext cx="1676160" cy="2746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41" name="Object 1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00040" y="4044960"/>
                        <a:ext cx="1676160" cy="27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2" name="Rectangle 16"/>
              <p:cNvSpPr/>
              <p:nvPr/>
            </p:nvSpPr>
            <p:spPr>
              <a:xfrm>
                <a:off x="634320" y="4116960"/>
                <a:ext cx="1480680" cy="1807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Line 17"/>
              <p:cNvSpPr/>
              <p:nvPr/>
            </p:nvSpPr>
            <p:spPr>
              <a:xfrm flipH="1">
                <a:off x="1396800" y="4080960"/>
                <a:ext cx="493560" cy="36000"/>
              </a:xfrm>
              <a:prstGeom prst="line">
                <a:avLst/>
              </a:prstGeom>
              <a:ln w="698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 flipH="1">
                <a:off x="1396800" y="4116960"/>
                <a:ext cx="493560" cy="36000"/>
              </a:xfrm>
              <a:prstGeom prst="line">
                <a:avLst/>
              </a:prstGeom>
              <a:ln w="698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Line 19"/>
              <p:cNvSpPr/>
              <p:nvPr/>
            </p:nvSpPr>
            <p:spPr>
              <a:xfrm>
                <a:off x="858960" y="4116960"/>
                <a:ext cx="1076760" cy="0"/>
              </a:xfrm>
              <a:prstGeom prst="line">
                <a:avLst/>
              </a:prstGeom>
              <a:ln w="2062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V="1">
                <a:off x="589680" y="4116600"/>
                <a:ext cx="89640" cy="144360"/>
              </a:xfrm>
              <a:prstGeom prst="line">
                <a:avLst/>
              </a:prstGeom>
              <a:ln w="982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544680" y="4261680"/>
                <a:ext cx="89640" cy="0"/>
              </a:xfrm>
              <a:prstGeom prst="line">
                <a:avLst/>
              </a:prstGeom>
              <a:ln w="73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858960" y="4116960"/>
                <a:ext cx="1032120" cy="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 flipV="1">
                <a:off x="544680" y="4116600"/>
                <a:ext cx="89640" cy="144360"/>
              </a:xfrm>
              <a:prstGeom prst="line">
                <a:avLst/>
              </a:prstGeom>
              <a:ln w="1522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0" name="Text Box 24"/>
            <p:cNvSpPr/>
            <p:nvPr/>
          </p:nvSpPr>
          <p:spPr>
            <a:xfrm>
              <a:off x="2541600" y="3571920"/>
              <a:ext cx="595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¿Por qué no comes alguno de mis excrementos?"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contestó el buey. “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on muy ricos en nutrientes."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Text Box 25"/>
          <p:cNvSpPr/>
          <p:nvPr/>
        </p:nvSpPr>
        <p:spPr>
          <a:xfrm>
            <a:off x="2514600" y="4143240"/>
            <a:ext cx="588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pavo le hizo caso y comprobó que realmente le aportaba la suficiente energía para alcanzar la primera rama del árbo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22440" y="4876920"/>
            <a:ext cx="672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 día siguiete, después de una nueva ración, alcanzó la siguiente ram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575080" y="5454720"/>
            <a:ext cx="65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ado un tiempo, el pavo logró subir hasta lo más al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1066680" y="5316480"/>
            <a:ext cx="5943600" cy="1084320"/>
            <a:chOff x="1066680" y="5316480"/>
            <a:chExt cx="5943600" cy="1084320"/>
          </a:xfrm>
        </p:grpSpPr>
        <p:pic>
          <p:nvPicPr>
            <p:cNvPr id="155" name="Object 8" descr=""/>
            <p:cNvPicPr/>
            <p:nvPr/>
          </p:nvPicPr>
          <p:blipFill>
            <a:blip r:embed="rId6"/>
            <a:stretch/>
          </p:blipFill>
          <p:spPr>
            <a:xfrm>
              <a:off x="1066680" y="5316480"/>
              <a:ext cx="11430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31"/>
            <p:cNvSpPr/>
            <p:nvPr/>
          </p:nvSpPr>
          <p:spPr>
            <a:xfrm>
              <a:off x="2514600" y="5867280"/>
              <a:ext cx="449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ápidamente fue localizado por un granjer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Text Box 32"/>
          <p:cNvSpPr/>
          <p:nvPr/>
        </p:nvSpPr>
        <p:spPr>
          <a:xfrm>
            <a:off x="2689200" y="6248520"/>
            <a:ext cx="45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granjero disparó al pavo y éste cayó del árb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ject 1026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779560" cy="29718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389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28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1030"/>
          <p:cNvSpPr/>
          <p:nvPr/>
        </p:nvSpPr>
        <p:spPr>
          <a:xfrm>
            <a:off x="3200400" y="3962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oralej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031"/>
          <p:cNvSpPr/>
          <p:nvPr/>
        </p:nvSpPr>
        <p:spPr>
          <a:xfrm>
            <a:off x="1000080" y="5105520"/>
            <a:ext cx="7915320" cy="1373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Arial"/>
              </a:rPr>
              <a:t>Comer mierda te puede llevar a lo más alto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…………………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pero no te garantiza quedarte allí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1032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1752480" cy="161280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1033" descr=""/>
          <p:cNvPicPr/>
          <p:nvPr/>
        </p:nvPicPr>
        <p:blipFill>
          <a:blip r:embed="rId3"/>
          <a:stretch/>
        </p:blipFill>
        <p:spPr>
          <a:xfrm>
            <a:off x="1371600" y="99072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034" descr=""/>
          <p:cNvPicPr/>
          <p:nvPr/>
        </p:nvPicPr>
        <p:blipFill>
          <a:blip r:embed="rId4"/>
          <a:stretch/>
        </p:blipFill>
        <p:spPr>
          <a:xfrm>
            <a:off x="1219320" y="914400"/>
            <a:ext cx="920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0959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Ó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Group 34"/>
          <p:cNvGrpSpPr/>
          <p:nvPr/>
        </p:nvGrpSpPr>
        <p:grpSpPr>
          <a:xfrm>
            <a:off x="228600" y="1292400"/>
            <a:ext cx="7625880" cy="733320"/>
            <a:chOff x="228600" y="1292400"/>
            <a:chExt cx="7625880" cy="733320"/>
          </a:xfrm>
        </p:grpSpPr>
        <p:pic>
          <p:nvPicPr>
            <p:cNvPr id="170" name="Object 5" descr=""/>
            <p:cNvPicPr/>
            <p:nvPr/>
          </p:nvPicPr>
          <p:blipFill>
            <a:blip r:embed="rId1"/>
            <a:stretch/>
          </p:blipFill>
          <p:spPr>
            <a:xfrm>
              <a:off x="228600" y="1292400"/>
              <a:ext cx="158436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6"/>
            <p:cNvSpPr/>
            <p:nvPr/>
          </p:nvSpPr>
          <p:spPr>
            <a:xfrm>
              <a:off x="2594160" y="1368360"/>
              <a:ext cx="526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 pajarillo volaba hacia el Sur durante el inviern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7"/>
          <p:cNvGrpSpPr/>
          <p:nvPr/>
        </p:nvGrpSpPr>
        <p:grpSpPr>
          <a:xfrm>
            <a:off x="533520" y="1978200"/>
            <a:ext cx="7104600" cy="625320"/>
            <a:chOff x="533520" y="1978200"/>
            <a:chExt cx="7104600" cy="625320"/>
          </a:xfrm>
        </p:grpSpPr>
        <p:pic>
          <p:nvPicPr>
            <p:cNvPr id="173" name="Object 8" descr=""/>
            <p:cNvPicPr/>
            <p:nvPr/>
          </p:nvPicPr>
          <p:blipFill>
            <a:blip r:embed="rId2"/>
            <a:stretch/>
          </p:blipFill>
          <p:spPr>
            <a:xfrm>
              <a:off x="533520" y="1978200"/>
              <a:ext cx="6872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9"/>
            <p:cNvSpPr/>
            <p:nvPr/>
          </p:nvSpPr>
          <p:spPr>
            <a:xfrm>
              <a:off x="1625040" y="2054160"/>
              <a:ext cx="60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cía tanto frío que el pajarillo se congeló y cayó al suel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" name="Group 10"/>
          <p:cNvGrpSpPr/>
          <p:nvPr/>
        </p:nvGrpSpPr>
        <p:grpSpPr>
          <a:xfrm>
            <a:off x="2514600" y="2435400"/>
            <a:ext cx="5418000" cy="1969920"/>
            <a:chOff x="2514600" y="2435400"/>
            <a:chExt cx="5418000" cy="1969920"/>
          </a:xfrm>
        </p:grpSpPr>
        <p:pic>
          <p:nvPicPr>
            <p:cNvPr id="176" name="Object 11" descr=""/>
            <p:cNvPicPr/>
            <p:nvPr/>
          </p:nvPicPr>
          <p:blipFill>
            <a:blip r:embed="rId3"/>
            <a:stretch/>
          </p:blipFill>
          <p:spPr>
            <a:xfrm>
              <a:off x="5638680" y="2435400"/>
              <a:ext cx="229392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2"/>
            <p:cNvSpPr/>
            <p:nvPr/>
          </p:nvSpPr>
          <p:spPr>
            <a:xfrm>
              <a:off x="2514600" y="2739960"/>
              <a:ext cx="348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entras yacía en el suelo, una vaca se acercó…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8" name="Object 13" descr=""/>
          <p:cNvPicPr/>
          <p:nvPr/>
        </p:nvPicPr>
        <p:blipFill>
          <a:blip r:embed="rId4"/>
          <a:stretch/>
        </p:blipFill>
        <p:spPr>
          <a:xfrm>
            <a:off x="609480" y="3502080"/>
            <a:ext cx="1446480" cy="71892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4"/>
          <p:cNvGrpSpPr/>
          <p:nvPr/>
        </p:nvGrpSpPr>
        <p:grpSpPr>
          <a:xfrm>
            <a:off x="0" y="3400560"/>
            <a:ext cx="5857920" cy="916920"/>
            <a:chOff x="0" y="3400560"/>
            <a:chExt cx="5857920" cy="916920"/>
          </a:xfrm>
        </p:grpSpPr>
        <p:grpSp>
          <p:nvGrpSpPr>
            <p:cNvPr id="180" name="Group 15"/>
            <p:cNvGrpSpPr/>
            <p:nvPr/>
          </p:nvGrpSpPr>
          <p:grpSpPr>
            <a:xfrm>
              <a:off x="0" y="3425760"/>
              <a:ext cx="2846520" cy="807480"/>
              <a:chOff x="0" y="3425760"/>
              <a:chExt cx="2846520" cy="807480"/>
            </a:xfrm>
          </p:grpSpPr>
          <p:graphicFrame>
            <p:nvGraphicFramePr>
              <p:cNvPr id="181" name="Object 16"/>
              <p:cNvGraphicFramePr/>
              <p:nvPr/>
            </p:nvGraphicFramePr>
            <p:xfrm>
              <a:off x="0" y="3425760"/>
              <a:ext cx="2846520" cy="807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2" name="Object 1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0" y="3425760"/>
                        <a:ext cx="2846520" cy="80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3" name="Rectangle 17"/>
              <p:cNvSpPr/>
              <p:nvPr/>
            </p:nvSpPr>
            <p:spPr>
              <a:xfrm>
                <a:off x="228600" y="3637800"/>
                <a:ext cx="2514600" cy="5310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H="1">
                <a:off x="1523520" y="3531960"/>
                <a:ext cx="838440" cy="105840"/>
              </a:xfrm>
              <a:prstGeom prst="line">
                <a:avLst/>
              </a:prstGeom>
              <a:ln w="698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H="1">
                <a:off x="1523520" y="3637800"/>
                <a:ext cx="838440" cy="106200"/>
              </a:xfrm>
              <a:prstGeom prst="line">
                <a:avLst/>
              </a:prstGeom>
              <a:ln w="698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609480" y="3637800"/>
                <a:ext cx="1828800" cy="0"/>
              </a:xfrm>
              <a:prstGeom prst="line">
                <a:avLst/>
              </a:prstGeom>
              <a:ln w="2062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Line 21"/>
              <p:cNvSpPr/>
              <p:nvPr/>
            </p:nvSpPr>
            <p:spPr>
              <a:xfrm flipV="1">
                <a:off x="152280" y="3637800"/>
                <a:ext cx="152640" cy="424800"/>
              </a:xfrm>
              <a:prstGeom prst="line">
                <a:avLst/>
              </a:prstGeom>
              <a:ln w="982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Line 22"/>
              <p:cNvSpPr/>
              <p:nvPr/>
            </p:nvSpPr>
            <p:spPr>
              <a:xfrm>
                <a:off x="76320" y="4062600"/>
                <a:ext cx="152280" cy="0"/>
              </a:xfrm>
              <a:prstGeom prst="line">
                <a:avLst/>
              </a:prstGeom>
              <a:ln w="73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Line 23"/>
              <p:cNvSpPr/>
              <p:nvPr/>
            </p:nvSpPr>
            <p:spPr>
              <a:xfrm>
                <a:off x="609480" y="3637800"/>
                <a:ext cx="1752840" cy="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 flipV="1">
                <a:off x="76320" y="3637800"/>
                <a:ext cx="152280" cy="424800"/>
              </a:xfrm>
              <a:prstGeom prst="line">
                <a:avLst/>
              </a:prstGeom>
              <a:ln w="1522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1" name="Text Box 25"/>
            <p:cNvSpPr/>
            <p:nvPr/>
          </p:nvSpPr>
          <p:spPr>
            <a:xfrm>
              <a:off x="2743200" y="3400560"/>
              <a:ext cx="311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se cagó encima d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jarill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Text Box 26"/>
          <p:cNvSpPr/>
          <p:nvPr/>
        </p:nvSpPr>
        <p:spPr>
          <a:xfrm>
            <a:off x="714240" y="43401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pado” por la boñiga de vaca, el pajarillo comenzó a sentirse calentito. De hecho, la mierda le estaba haciendo reviv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1390680" y="4950000"/>
            <a:ext cx="66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tiéndose calentito y feliz, pronto se puso a cant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Object 28" descr=""/>
          <p:cNvPicPr/>
          <p:nvPr/>
        </p:nvPicPr>
        <p:blipFill>
          <a:blip r:embed="rId7"/>
          <a:stretch/>
        </p:blipFill>
        <p:spPr>
          <a:xfrm>
            <a:off x="0" y="2664000"/>
            <a:ext cx="198288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29"/>
          <p:cNvGrpSpPr/>
          <p:nvPr/>
        </p:nvGrpSpPr>
        <p:grpSpPr>
          <a:xfrm>
            <a:off x="0" y="5254560"/>
            <a:ext cx="7715520" cy="1073160"/>
            <a:chOff x="0" y="5254560"/>
            <a:chExt cx="7715520" cy="1073160"/>
          </a:xfrm>
        </p:grpSpPr>
        <p:pic>
          <p:nvPicPr>
            <p:cNvPr id="196" name="Object 30" descr=""/>
            <p:cNvPicPr/>
            <p:nvPr/>
          </p:nvPicPr>
          <p:blipFill>
            <a:blip r:embed="rId8"/>
            <a:stretch/>
          </p:blipFill>
          <p:spPr>
            <a:xfrm>
              <a:off x="0" y="5254560"/>
              <a:ext cx="12938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31"/>
            <p:cNvSpPr/>
            <p:nvPr/>
          </p:nvSpPr>
          <p:spPr>
            <a:xfrm>
              <a:off x="1536480" y="5330880"/>
              <a:ext cx="61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 gato que por allí pasaba, le oyó y se acercó a investig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Text Box 32"/>
          <p:cNvSpPr/>
          <p:nvPr/>
        </p:nvSpPr>
        <p:spPr>
          <a:xfrm>
            <a:off x="1295280" y="5788080"/>
            <a:ext cx="72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uiendo la música, el gato descubrió al pajarillo debajo de la boñiga, lo sacó de allí y…  ¡ se lo comió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Object 33"/>
          <p:cNvGraphicFramePr/>
          <p:nvPr/>
        </p:nvGraphicFramePr>
        <p:xfrm>
          <a:off x="228600" y="4950000"/>
          <a:ext cx="117324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950000"/>
                    <a:ext cx="11732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0959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"/>
              </a:rPr>
              <a:t>LECCIÓ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276720" y="2286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oraleja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971800" y="3071880"/>
            <a:ext cx="5791320" cy="2562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No siempre el que “te caga ” es tu enemi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iempre el que te “saca de la mierda” es tu amig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y, sobre todo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uando estés “de mierda hasta las orejas”, mantén la boca cer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Object 7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584360" cy="7336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8"/>
          <p:cNvGrpSpPr/>
          <p:nvPr/>
        </p:nvGrpSpPr>
        <p:grpSpPr>
          <a:xfrm>
            <a:off x="0" y="3657600"/>
            <a:ext cx="2846520" cy="807840"/>
            <a:chOff x="0" y="3657600"/>
            <a:chExt cx="2846520" cy="807840"/>
          </a:xfrm>
        </p:grpSpPr>
        <p:graphicFrame>
          <p:nvGraphicFramePr>
            <p:cNvPr id="208" name="Object 9"/>
            <p:cNvGraphicFramePr/>
            <p:nvPr/>
          </p:nvGraphicFramePr>
          <p:xfrm>
            <a:off x="0" y="3657600"/>
            <a:ext cx="2846520" cy="807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9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3657600"/>
                      <a:ext cx="2846520" cy="80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Rectangle 10"/>
            <p:cNvSpPr/>
            <p:nvPr/>
          </p:nvSpPr>
          <p:spPr>
            <a:xfrm>
              <a:off x="228600" y="3869640"/>
              <a:ext cx="2514600" cy="531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1523520" y="3763800"/>
              <a:ext cx="838440" cy="105840"/>
            </a:xfrm>
            <a:prstGeom prst="line">
              <a:avLst/>
            </a:prstGeom>
            <a:ln w="698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 flipH="1">
              <a:off x="1523520" y="3869640"/>
              <a:ext cx="838440" cy="106200"/>
            </a:xfrm>
            <a:prstGeom prst="line">
              <a:avLst/>
            </a:prstGeom>
            <a:ln w="698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609480" y="3869640"/>
              <a:ext cx="1828800" cy="0"/>
            </a:xfrm>
            <a:prstGeom prst="line">
              <a:avLst/>
            </a:prstGeom>
            <a:ln w="2062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 flipV="1">
              <a:off x="152280" y="3869640"/>
              <a:ext cx="152640" cy="424800"/>
            </a:xfrm>
            <a:prstGeom prst="line">
              <a:avLst/>
            </a:prstGeom>
            <a:ln w="982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76320" y="4294800"/>
              <a:ext cx="152280" cy="0"/>
            </a:xfrm>
            <a:prstGeom prst="line">
              <a:avLst/>
            </a:prstGeom>
            <a:ln w="73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9480" y="3869640"/>
              <a:ext cx="1752840" cy="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V="1">
              <a:off x="76320" y="3869640"/>
              <a:ext cx="152280" cy="424800"/>
            </a:xfrm>
            <a:prstGeom prst="line">
              <a:avLst/>
            </a:prstGeom>
            <a:ln w="1522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Object 18" descr=""/>
          <p:cNvPicPr/>
          <p:nvPr/>
        </p:nvPicPr>
        <p:blipFill>
          <a:blip r:embed="rId4"/>
          <a:stretch/>
        </p:blipFill>
        <p:spPr>
          <a:xfrm>
            <a:off x="152280" y="2895480"/>
            <a:ext cx="1982880" cy="1133640"/>
          </a:xfrm>
          <a:prstGeom prst="rect">
            <a:avLst/>
          </a:prstGeom>
          <a:ln w="0">
            <a:noFill/>
          </a:ln>
        </p:spPr>
      </p:pic>
      <p:pic>
        <p:nvPicPr>
          <p:cNvPr id="219" name="Object 19" descr=""/>
          <p:cNvPicPr/>
          <p:nvPr/>
        </p:nvPicPr>
        <p:blipFill>
          <a:blip r:embed="rId5"/>
          <a:stretch/>
        </p:blipFill>
        <p:spPr>
          <a:xfrm>
            <a:off x="0" y="5410080"/>
            <a:ext cx="12938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52:58Z</dcterms:created>
  <dc:creator>mlgontes</dc:creator>
  <dc:description/>
  <dc:language>en-US</dc:language>
  <cp:lastModifiedBy>francisco.molina</cp:lastModifiedBy>
  <dcterms:modified xsi:type="dcterms:W3CDTF">2012-04-27T17:31:30Z</dcterms:modified>
  <cp:revision>69</cp:revision>
  <dc:subject/>
  <dc:title>¿QUÉ HACEN LOS DIRECTIVOS Y QUÉ HABILIDADES NECESITAN PARA UN TRABAJO EFECTIVO?</dc:title>
</cp:coreProperties>
</file>